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374-3378-4CD2-B211-DFF36CCC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30D-845D-4101-98A6-92311B3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CEA-542D-4DF5-9600-DE76763C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74A-1A34-4137-8E13-BB2BFA88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83-78F2-47FE-9115-81805EA0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653-A8DA-493E-8FB3-4C2DEA36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BAE-A53C-4483-8724-0AD98A4F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E37-6571-404F-930B-BD37403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7F6-4822-4800-811A-ADD3C0ED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B81-C4E6-4951-857B-0528AB7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C00-0157-4B52-A6A9-6001034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803-102E-452B-9BDD-2891669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88ED-5B58-46E3-B9C6-D113E9DA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уробиологија зависности од бензодиазепина (Депресори ЦНС-а; Злоупотреба и зависност од бензодиазепина; Апстиненцијални синдром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ф. Др Горан Михајл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SIHOFARMAKOLOGIJA ANKSIOZ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storijat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alproična kiselina prvi put je otkrivena 188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azični lekovi koji se najčešće korišće u lečenju anksioznih poremećaja su otkriveni 50- tih i    60- tih god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0- ti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odina bupropion, buspiron, modafinil, mirtazapin- analog mianser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0- tih- dva hipnotika ( zaleplon i zolpidem ), venlafaksin, kao i SSRI- sero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990. escitalopram, izomer citalopr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FDA preporu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anični poremeća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SSRI ( fluoksetin, sertralin, paroxetin ) ili SNRI ( venlafaks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sttraumatski stresni poremeća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  SSRI ( sertralin i parokset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cijalni anksiozni poremećaj ( fobij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        SSRI ( sertralin i parokset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pecifične fobij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optimalni tretman je kognitivno- bihejvioralna terapija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rimena anksiolitika u lečenju anksioznih poremeć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ao adjuvantana terapija, posebno na početku medikamentoznog tret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osebno rezistentni slučajevi mogu zahtevati dugotrajnu administrac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olerancija, zavisnost ili zloupotreb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hanizam dejstva barbitur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ehanizam dejstva barbiturata nije do kr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vetl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v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ji mehanizam obuhvata GAB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e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efekat fenobarbit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ednjeg vremena tokom kojeg su otvoreni hlor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za posledicu hiperpolarizacij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arbitura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anas izuzetno retk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iste kao sedativi i hipno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hanizam dejstva benzodiazepin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diazepinski receptori su specif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mest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-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visokim afinitetom za vezivanj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diazepina, a afinitet poj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 GABA i hl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diazepini ola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 transmisiju koju kontr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BA, delu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kao indirektni GAB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gon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hanizam dejstva benzodiazepin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zivanje benzodiazepina za receptor ima za posledic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 vezivanje GABA za GAB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eptor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led njegovo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 otvaranja dovodi do pov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ustljivosti hlornog kana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 proces ima z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edicu pov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lazak hlornih jona u neur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enzodiazepinski </a:t>
            </a:r>
            <a:br>
              <a:rPr sz="4400"/>
            </a:b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ecep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oji najmanje dva tip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zodiazepinski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ptor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 1 (omega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 2 (omega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erovatno da s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zodiazepinski receptori tipa 1 odgovorni z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pno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 efekte, a receptori tipa 2 za kogniciju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moriju i motornu kontrol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 mozgu je pronađena 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rsta benzodiazepinskih receptora- omega 3 il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ferni tip benzodiazepinskih receptor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ji je svoj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e dobio zbog svoje najv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rasprostranjenosti 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fernim tkivima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loga ovih receptora nije 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punosti raz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jen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rimena antipsihotika u lečenju anksioznih poremeć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tipični antipsihotici se povećano koriste u tretmanu anksioznih poremeća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ktivnost kao agoniste 5- HT1</a:t>
            </a:r>
            <a:r>
              <a:rPr b="0" lang="sr-Latn-CS" sz="3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ceptora po hipotezi dovodi do anksiolitčkih efekata           ( aripiprazol i ziprasidon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ako su grupisani kao klasa, svaki atipični antipsihotik ispoljava jedinstveni receptorski profi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ove tendencije u lečenju anksioznih poremeć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emant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 nekompetitivni antagonist NMDA receptora ) kod ljudi još uvek ne  kao primarni anksiolit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amotig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 glutamatski antagonista )- anksiolitička svojstva mogu biti posredovana blokadom Na kan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abal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tikonvulziv koji blokira VGCS obećavajući je a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6308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KSIO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ZNOST?</a:t>
            </a:r>
            <a:br>
              <a:rPr sz="4000"/>
            </a:br>
            <a:r>
              <a:rPr b="0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SM-IV-T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CD- 10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nični poremećaj sa ili bez agorafobi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orafobija sa ili bez paničnog poremeća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ecifične fobi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.   socijalne fobi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sesivno- kompulsivni poremećaj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traumatski stresni poremećaj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.   akutna reakcija na st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.   generalizovani anksiozni poremeć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KORELACIJA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ANKSIOZNOST- DEPRE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urobiološka os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mi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sihofarmakoterap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KORELACIJA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ANKSIOZNOST- DEPRE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cept velikog depresivnog poremećaja je suviše hete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krodijagnoze” panike, socijalnog anksioznog poremećaja, itd. su pod znakom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češća forma afektivnih poremećaja upravo anskiozno depresivni poremećaj    ( granica anksioznost- gepresija ?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NA KRAJU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rada projekta DSM-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oliko hipotetičkih prila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tiologiju ( vulnerabilnost gena i/ili uticaj sredin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tofiziologiju ( neuralne mreže kao osnova određenih simptoma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KSIO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ZNOST  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↔  STR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Fro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414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EUROBIOLOGIJA ANKSIOZNIH POREMEĆA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643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Amigdal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azalna amigd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teralna amigda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ntralno jed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Senzorni korteks, insula, prefrontalni kort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Moždano stablo i hipotalamu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ut „kratke petlje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mulusi koje prima t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tera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migd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ntralni nuk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ut „duge petlje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 senzornog korteksa, ins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frontalnog kortek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na amigdal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dano stablo i hipotala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autonomne i bihejvioralne manifest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akutnog napada stra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U prilog navedenim tvrdnjam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T, NMR, PET, SPECT- savremene vizualizacio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vrde sličnih simptoma u diferencijalnoj dijagnozi epilepsije datih re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tska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EUROHEMIJA ANKSIOZ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urotransmite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kotinski acetilholinski recep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ama- amino buterna kise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utamatergički recep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paminergički si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rotonin i njegovi recept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teholami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nabinoidni recep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EUROHEMIJA ANKSIOZ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europept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H si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enilat ciklaza- aktivišući polipeptid                  ( PACAP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ijalni Ca- vezujući protein S100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tein kinaza C ( PKC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b3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D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2:34:47Z</dcterms:created>
  <dc:creator>Milica Borovcanin</dc:creator>
  <dc:description/>
  <dc:language>en-US</dc:language>
  <cp:lastModifiedBy>Home</cp:lastModifiedBy>
  <dcterms:modified xsi:type="dcterms:W3CDTF">2014-02-16T17:38:36Z</dcterms:modified>
  <cp:revision>15</cp:revision>
  <dc:subject/>
  <dc:title>Biološke osnove anksioznosti i psihofarmakoterapija</dc:title>
</cp:coreProperties>
</file>