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ACE-A147-4291-B567-D65749D2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DEE-04D5-4A1E-A25E-2F48885A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741-027B-40D6-A202-84C11942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221-F903-4C54-B204-DE434D88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E25-3F37-4807-B83D-F7C1158B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F4C-CAFA-42F9-B9E1-C3487F99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3C1-000C-4EB5-9ACE-59872251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944-26EE-4EDE-8E77-545E56F5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318-B123-478D-B241-BA524F28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60D-AF36-4E38-B4C6-C03A6845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19B-FD9A-4D82-9F43-190DC8D2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94E-A4FE-4AF2-98E3-C578A9B5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67A4-8160-4849-954A-7C9A05985C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9988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Биолошке основе анксиозности и психофармак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57200" y="610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ећа недеља наств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457200" y="22860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11111"/>
                </a:solidFill>
                <a:latin typeface="Arial"/>
                <a:ea typeface="Arial"/>
              </a:rPr>
              <a:t>И12 -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 И ЗАВИСНОСТ ОД ЛЕКОВА И ПА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ХОФАРМАКОЛОГИЈА АНКСИОЗНОСТИ - Историјат разв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алпроинска киселина први пут је откривена 1882.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зични лекови који се најчешће коришће у лечењу анксиозних поремећаја су откривени 50-тих и 60-тих год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-тих година бупропион, буспирон, модафинил, миртазапин- аналог мианс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-тих- два хипнотика (залеплон и золпидем), венлафаксин, као и SSRI- серотон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0.г. есциталопрам, изомер циталопр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FD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пор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аничн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SR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флуоксет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ертрал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а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ет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NR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енлафакс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осттрауматск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стресн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SR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ертрал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ароксет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социјалн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анксиозн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фобије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SR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ертрал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ароксет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специфичне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фоб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птим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етм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гнити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бихејвиора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ерап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а анксиолитика у лечењу анксиозних пореме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 адјувантна терапија, посебно на почетку медикаментозног третм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ебно резистентни случајеви могу захтевати дуготрајну администрац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еранција, зависност или злоупотреб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анизам дејства барбиту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рбитурата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а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ветљ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важнији механизам обухват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B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иметички ефекат фенобарбито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же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њег времена током којег су отворени хлор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а за последицу хиперполаризаци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уронске мемб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рбитур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 данас изузетно рет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е као седативи и хипнотиц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зодиазеп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21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нзодиазепински рецептори су специфична места 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НС-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 високим афинитетом за вези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нзодиазепина, а афинитет појачавају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B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 хло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нзодиазепини олакшавају трансмисију коју контролиш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B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ујући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ректни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BА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агонисти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зодиазеп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зивање бензодиазепина за рецептор има за последицу појачано везивањ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B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B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рецептор, што услед његовог чешћег отварања доводи до повећане пропустљивости хлорног ка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о процес има за последицу повећан улазак хлорних јона у неур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638680" y="284040"/>
            <a:ext cx="3429000" cy="2992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зодиазепински рецеп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оји најмање два тип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нзодиазепинских рецептор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п 1 (омега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п 2 (омега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роватно да су бензодиазепински рецептори типа 1 одговорни за хипнотичке ефекте, а рецептори типа 2 за когницију, меморију и моторну контрол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мозгу је пронађена и трећа врста бензодиазепинских рецептора-омега 3 или периферни тип бензодиазепинских рецептора, који је своје име добио због своје највеће распрострањености у периферним ткив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лога ових рецептора није у потпуности разјашњ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ипсихот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ксиоз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типични антипсихотици се повећано користе у третману анксиозних поремећ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ост као агонисте 5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T1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цептора по хипотези доводи до анксиолитчких ефеката (арипипразол и зипрасидо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ако су груписани као класа, сваки атипични антипсихотик испољава јединствени рецепторски проф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в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нден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ксиоз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емант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некомпетитивни антагонист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M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рецептора) код људи још увек не као примарни анксиолит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амотриг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глутаматски антагониста)- анксиолитичка својства могу бити посредована блокадом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a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н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егабал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антиконвулзив који блокир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GC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ећавајући је аген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Л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КСИОЗ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ПРЕС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биолош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н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нсмите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фармакотерап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38188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НКСИОЗНОСТ?</a:t>
            </a:r>
            <a:br>
              <a:rPr sz="2400"/>
            </a:br>
            <a:r>
              <a:rPr b="0" i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DSM-IV-TR </a:t>
            </a:r>
            <a:br>
              <a:rPr sz="2400"/>
            </a:br>
            <a:r>
              <a:rPr b="0" i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ICD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583000"/>
            <a:ext cx="8229600" cy="28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анични поремећај са или без агорафобиј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горафобија са или без паничног поремећа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е фобиј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оцијалне фобиј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псесивно- компулсивни поремећај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трауматски стресни поремећај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кутна реакција на стрес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генерализовани анксиозни поремећај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Л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КСИОЗ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ПРЕС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цеп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ли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пресив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виш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терог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икродијагн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ни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цијал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ксиоз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на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ит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чешћ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фектив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ра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скиоз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преси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ремећај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раниц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ксиоз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епрес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?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КРАЈ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рада пројект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SM –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колико хипотетичких прила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тиологију (вулнерабилност гена и/или утицај средин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тофизиологију (неуралне мреже као основа одређених симптом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1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000000"/>
                </a:solidFill>
                <a:latin typeface="Arial"/>
              </a:rPr>
              <a:t>АНКСИОЗНОСТ</a:t>
            </a:r>
            <a:r>
              <a:rPr b="1" i="1" lang="sr-Latn-C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↔  </a:t>
            </a:r>
            <a:r>
              <a:rPr b="1" i="1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Фрој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АНКСИОЗ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6643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мигда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зална амигд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атерална амигд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трално ј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ензорни кортекс, инсула, префронтални кортек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ождано стабло и хипоталаму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кратке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петље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тимулус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р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аламу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латера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амигд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центр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уклеу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дуге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петље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ензор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ртек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сул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рефронтал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ртек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латерал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амигд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ожда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таб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хипоталаму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аутономне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бихејвиоралне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манифестације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напада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страха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л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веде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рдњам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CT, NMR, PET, SPEC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време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зуализацио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о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твр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ич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ференцијалн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пилепс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т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г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енетс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УРОХЕМ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КСИО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уротрансмитер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цетилхолин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цепт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и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тер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исе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утаматергич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цепт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аминергич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отон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њег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цепт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техолам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набиноид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цепт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УРОХЕМ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КСИО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уропептид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енил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кла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ишу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ипепти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CA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иј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зују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ина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b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DN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2:34:47Z</dcterms:created>
  <dc:creator>Milica Borovcanin</dc:creator>
  <dc:description/>
  <dc:language>en-US</dc:language>
  <cp:lastModifiedBy>Slobodan Novokmet</cp:lastModifiedBy>
  <dcterms:modified xsi:type="dcterms:W3CDTF">2014-02-06T18:06:08Z</dcterms:modified>
  <cp:revision>25</cp:revision>
  <dc:subject/>
  <dc:title>Biološke osnove anksioznosti i psihofarmakoterapija</dc:title>
</cp:coreProperties>
</file>